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A11-4FFA-4C52-B8F3-AD3F2F606B0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3295-0A2B-4AF8-AB1F-F0807617AFD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0BFF-5423-4F1E-8734-C84C3C051F0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6A8-838F-4E0B-920C-22A1874C6D3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70E-4741-4FF9-8C9E-52E85ECB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95E-1176-4643-B51F-AD67F088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C56-A7F4-4BA1-B244-FA2B1D5D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1EB-7A8F-4C85-A714-38D3A19F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6E-A27D-4576-838A-697FA53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CA1-4BBC-492E-A699-BC65DB3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2A0-7441-47C3-91A9-B47581B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2BC-0F8F-4132-93FA-81E8DAA5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D96-7E6F-4E27-99A6-4716DFD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11C-FC1F-4878-AA78-CFF0197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2D0-9F64-4232-8363-4FB31ED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E66-F4E2-4C52-9614-B8C6729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9A6D-C3AF-4658-9DDD-D7990D516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1760" y="1994040"/>
            <a:ext cx="83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62640" y="1712880"/>
            <a:ext cx="596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8683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840" y="2097000"/>
            <a:ext cx="885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6800" y="1162080"/>
            <a:ext cx="7640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03720" y="933480"/>
            <a:ext cx="6755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 2 НЕДЕЉ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В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9720" y="164160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20-09-27T16:50:23Z</dcterms:modified>
  <cp:revision>66</cp:revision>
  <dc:subject/>
  <dc:title>PowerPoint Presentation</dc:title>
</cp:coreProperties>
</file>